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2A7-ACD4-4F1F-8CCA-CD06E481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5A7-08E2-4646-BCC4-9191C76B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824-561D-460D-A32A-A39EDC69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EE7-7B4C-448D-A432-EF977119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E13B2-FA78-48CB-ABC8-12C4F5E8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FB56-7C2D-42BE-9EBA-2975A0F2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9923B-CD58-48A2-BD83-7D644187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ACBE2-0039-4B0B-A0A2-2EBA407A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EC2BC-9AB2-4E2F-8CC8-9657AD90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16516-8814-43FD-9EE8-0DB63F68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4B828-EF4C-48F5-B2C3-A3DD0095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130-2CFB-426D-BB23-C1A3AB77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EB051-66A9-476B-BD45-5D8EC025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67A60-C797-4928-85FA-AE4B6386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41ADA-E7FA-40F5-9DA0-917C1F7C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744FE-79DF-40BD-816C-65A95BE3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B4496-F871-423F-BA3E-B4727161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93F-AD78-42C5-97B0-309C8918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743-CA90-4C0B-B914-89A915D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C86-A882-4ACF-BAA2-B06742BB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9EB-3752-4F68-AE3F-E591BC71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0BF-CF1B-4626-9EDB-9854CADB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E11-FE5F-4EDA-9EB1-19DB5E1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89B-8D24-453D-9668-17194EC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10EC-B052-43F6-89C4-435319D7CB91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6748-AA83-458C-AAAB-A29F031847B7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3416;&#26399;&#22577;&#21578;&#38988;&#30446;.txt" TargetMode="External"/><Relationship Id="rId3" Type="http://schemas.openxmlformats.org/officeDocument/2006/relationships/hyperlink" Target="&#23416;&#26399;&#22577;&#21578;&#20839;&#23481;&#21450;&#26684;&#24335;.do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s.ubc.ca/spider/harrison/Java/sorting-demo.html" TargetMode="External"/><Relationship Id="rId3" Type="http://schemas.openxmlformats.org/officeDocument/2006/relationships/hyperlink" Target="http://content.edu.tw/senior/computer/ks_ks/book/algodata/algorithm/algo4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細明體"/>
              </a:rPr>
              <a:t>分組完成以下之排序演算法學期專題報告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繳交時間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12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月  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日以電子郵件方式繳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12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日以書面方式繳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m Proj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學期報告題目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學期報告內容及格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m Proj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參考資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orting Algorith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排序演算法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m Proj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1:14:41Z</dcterms:created>
  <dc:creator>江振瑞</dc:creator>
  <dc:description/>
  <dc:language>en-US</dc:language>
  <cp:lastModifiedBy>江振瑞</cp:lastModifiedBy>
  <dcterms:modified xsi:type="dcterms:W3CDTF">2001-12-26T15:44:22Z</dcterms:modified>
  <cp:revision>2</cp:revision>
  <dc:subject/>
  <dc:title>Term Project</dc:title>
</cp:coreProperties>
</file>